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16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60" y="3888360"/>
            <a:ext cx="8216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632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60" y="388836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6320" y="388836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4240" y="114264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2360" y="114264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760" y="388836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4240" y="388836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2360" y="388836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166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166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096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320" y="1142640"/>
            <a:ext cx="40096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693252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142640"/>
            <a:ext cx="40096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760" y="388836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166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096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6320" y="388836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5760" y="3888360"/>
            <a:ext cx="8216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16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5760" y="3888360"/>
            <a:ext cx="8216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632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5760" y="388836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6320" y="388836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4240" y="114264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2360" y="114264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5760" y="388836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4240" y="388836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2360" y="3888360"/>
            <a:ext cx="2645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166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096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142640"/>
            <a:ext cx="40096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693252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6320" y="1142640"/>
            <a:ext cx="40096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760" y="388836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096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632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6320" y="388836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6320" y="1142640"/>
            <a:ext cx="400968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760" y="3888360"/>
            <a:ext cx="821664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771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flipH="1">
            <a:off x="304560" y="838080"/>
            <a:ext cx="662940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8458200" y="6324480"/>
            <a:ext cx="517320" cy="328680"/>
            <a:chOff x="8458200" y="6324480"/>
            <a:chExt cx="517320" cy="328680"/>
          </a:xfrm>
        </p:grpSpPr>
        <p:sp>
          <p:nvSpPr>
            <p:cNvPr id="3" name=""/>
            <p:cNvSpPr/>
            <p:nvPr/>
          </p:nvSpPr>
          <p:spPr>
            <a:xfrm>
              <a:off x="8458200" y="6324480"/>
              <a:ext cx="5173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458200" y="6324480"/>
              <a:ext cx="5173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587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fld id="{252F75DE-A8E6-4BE2-8D15-10A6BE9EF350}" type="slidenum"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5760" y="1142640"/>
            <a:ext cx="82166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10960" indent="-210960">
              <a:spcBef>
                <a:spcPts val="53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58720" indent="-228600">
              <a:spcBef>
                <a:spcPts val="53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indent="-225360">
              <a:spcBef>
                <a:spcPts val="539"/>
              </a:spcBef>
              <a:buClr>
                <a:srgbClr val="000000"/>
              </a:buClr>
              <a:buSzPct val="90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238400" indent="-219240">
              <a:spcBef>
                <a:spcPts val="539"/>
              </a:spcBef>
              <a:buClr>
                <a:srgbClr val="000000"/>
              </a:buClr>
              <a:buSzPct val="90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1600200" indent="-231840">
              <a:spcBef>
                <a:spcPts val="53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1600200" indent="-231840">
              <a:spcBef>
                <a:spcPts val="53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1600200" indent="-231840">
              <a:spcBef>
                <a:spcPts val="53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" name="BRCM_logo-black-186" descr=""/>
          <p:cNvPicPr/>
          <p:nvPr/>
        </p:nvPicPr>
        <p:blipFill>
          <a:blip r:embed="rId3"/>
          <a:stretch/>
        </p:blipFill>
        <p:spPr>
          <a:xfrm>
            <a:off x="152280" y="6172200"/>
            <a:ext cx="9907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82880" y="4946760"/>
            <a:ext cx="3360600" cy="1258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5943600"/>
            <a:ext cx="3413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0280" y="6292800"/>
            <a:ext cx="3108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tember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04920" y="2133720"/>
            <a:ext cx="8534160" cy="0"/>
          </a:xfrm>
          <a:prstGeom prst="line">
            <a:avLst/>
          </a:prstGeom>
          <a:ln w="378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cking Magm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 &amp; Profit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384200" y="3962520"/>
            <a:ext cx="6384960" cy="546120"/>
            <a:chOff x="1384200" y="3962520"/>
            <a:chExt cx="6384960" cy="546120"/>
          </a:xfrm>
        </p:grpSpPr>
        <p:sp>
          <p:nvSpPr>
            <p:cNvPr id="88" name=""/>
            <p:cNvSpPr/>
            <p:nvPr/>
          </p:nvSpPr>
          <p:spPr>
            <a:xfrm>
              <a:off x="1384200" y="3962520"/>
              <a:ext cx="6384960" cy="546120"/>
            </a:xfrm>
            <a:prstGeom prst="roundRect">
              <a:avLst>
                <a:gd name="adj" fmla="val 2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84200" y="3962520"/>
              <a:ext cx="6384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514600" y="2514600"/>
            <a:ext cx="411480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ndeep Mirchand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roadcom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365040" y="1095480"/>
            <a:ext cx="7513200" cy="4936680"/>
            <a:chOff x="365040" y="1095480"/>
            <a:chExt cx="7513200" cy="4936680"/>
          </a:xfrm>
        </p:grpSpPr>
        <p:graphicFrame>
          <p:nvGraphicFramePr>
            <p:cNvPr id="129" name=""/>
            <p:cNvGraphicFramePr/>
            <p:nvPr/>
          </p:nvGraphicFramePr>
          <p:xfrm>
            <a:off x="365040" y="3349800"/>
            <a:ext cx="7513200" cy="268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5040" y="3349800"/>
                      <a:ext cx="7513200" cy="268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365040" y="1095480"/>
            <a:ext cx="7513200" cy="200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040" y="1095480"/>
                      <a:ext cx="7513200" cy="200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65040" y="1095480"/>
            <a:ext cx="7503840" cy="4929840"/>
            <a:chOff x="365040" y="1095480"/>
            <a:chExt cx="7503840" cy="4929840"/>
          </a:xfrm>
        </p:grpSpPr>
        <p:graphicFrame>
          <p:nvGraphicFramePr>
            <p:cNvPr id="134" name=""/>
            <p:cNvGraphicFramePr/>
            <p:nvPr/>
          </p:nvGraphicFramePr>
          <p:xfrm>
            <a:off x="365040" y="3346560"/>
            <a:ext cx="7503840" cy="2678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040" y="3346560"/>
                      <a:ext cx="7503840" cy="267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"/>
            <p:cNvGraphicFramePr/>
            <p:nvPr/>
          </p:nvGraphicFramePr>
          <p:xfrm>
            <a:off x="365040" y="1095480"/>
            <a:ext cx="7503840" cy="2000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5040" y="1095480"/>
                      <a:ext cx="7503840" cy="200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8" name=""/>
          <p:cNvGrpSpPr/>
          <p:nvPr/>
        </p:nvGrpSpPr>
        <p:grpSpPr>
          <a:xfrm>
            <a:off x="365040" y="1095480"/>
            <a:ext cx="7513200" cy="4936680"/>
            <a:chOff x="365040" y="1095480"/>
            <a:chExt cx="7513200" cy="4936680"/>
          </a:xfrm>
        </p:grpSpPr>
        <p:graphicFrame>
          <p:nvGraphicFramePr>
            <p:cNvPr id="139" name=""/>
            <p:cNvGraphicFramePr/>
            <p:nvPr/>
          </p:nvGraphicFramePr>
          <p:xfrm>
            <a:off x="365040" y="3349800"/>
            <a:ext cx="7513200" cy="2682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5040" y="3349800"/>
                      <a:ext cx="7513200" cy="268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365040" y="1095480"/>
            <a:ext cx="7513200" cy="20034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65040" y="1095480"/>
                      <a:ext cx="7513200" cy="200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3" name=""/>
          <p:cNvGrpSpPr/>
          <p:nvPr/>
        </p:nvGrpSpPr>
        <p:grpSpPr>
          <a:xfrm>
            <a:off x="365040" y="1095480"/>
            <a:ext cx="7513200" cy="4935240"/>
            <a:chOff x="365040" y="1095480"/>
            <a:chExt cx="7513200" cy="4935240"/>
          </a:xfrm>
        </p:grpSpPr>
        <p:graphicFrame>
          <p:nvGraphicFramePr>
            <p:cNvPr id="144" name=""/>
            <p:cNvGraphicFramePr/>
            <p:nvPr/>
          </p:nvGraphicFramePr>
          <p:xfrm>
            <a:off x="365040" y="3349080"/>
            <a:ext cx="7513200" cy="26816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5040" y="3349080"/>
                      <a:ext cx="7513200" cy="26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365040" y="1095480"/>
            <a:ext cx="7513200" cy="2003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65040" y="1095480"/>
                      <a:ext cx="7513200" cy="20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8" name=""/>
          <p:cNvGrpSpPr/>
          <p:nvPr/>
        </p:nvGrpSpPr>
        <p:grpSpPr>
          <a:xfrm>
            <a:off x="365040" y="1095480"/>
            <a:ext cx="7513200" cy="4937760"/>
            <a:chOff x="365040" y="1095480"/>
            <a:chExt cx="7513200" cy="4937760"/>
          </a:xfrm>
        </p:grpSpPr>
        <p:graphicFrame>
          <p:nvGraphicFramePr>
            <p:cNvPr id="149" name=""/>
            <p:cNvGraphicFramePr/>
            <p:nvPr/>
          </p:nvGraphicFramePr>
          <p:xfrm>
            <a:off x="365040" y="3350160"/>
            <a:ext cx="7513200" cy="2683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65040" y="3350160"/>
                      <a:ext cx="7513200" cy="26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365040" y="1095480"/>
            <a:ext cx="7513200" cy="20041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65040" y="1095480"/>
                      <a:ext cx="7513200" cy="200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3" name=""/>
          <p:cNvGrpSpPr/>
          <p:nvPr/>
        </p:nvGrpSpPr>
        <p:grpSpPr>
          <a:xfrm>
            <a:off x="365040" y="1095480"/>
            <a:ext cx="7513200" cy="4936680"/>
            <a:chOff x="365040" y="1095480"/>
            <a:chExt cx="7513200" cy="4936680"/>
          </a:xfrm>
        </p:grpSpPr>
        <p:graphicFrame>
          <p:nvGraphicFramePr>
            <p:cNvPr id="154" name=""/>
            <p:cNvGraphicFramePr/>
            <p:nvPr/>
          </p:nvGraphicFramePr>
          <p:xfrm>
            <a:off x="365040" y="3350520"/>
            <a:ext cx="7513200" cy="2681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65040" y="3350520"/>
                      <a:ext cx="7513200" cy="268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365040" y="1095480"/>
            <a:ext cx="7513200" cy="20026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65040" y="1095480"/>
                      <a:ext cx="7513200" cy="200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object relations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object relations + attributes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rel8" descr=""/>
          <p:cNvPicPr/>
          <p:nvPr/>
        </p:nvPicPr>
        <p:blipFill>
          <a:blip r:embed="rId1"/>
          <a:srcRect l="25000" t="0" r="0" b="0"/>
          <a:stretch/>
        </p:blipFill>
        <p:spPr>
          <a:xfrm>
            <a:off x="152280" y="914400"/>
            <a:ext cx="89125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object attributes dump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6781680" cy="38102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print all attributes of an object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query_object {obj} 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 set attr {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attributeList 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data get $obj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attributeName $attributeList 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data get $obj $attributeNa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valu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{[string length $value]} {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attr($attributeName) $value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rray attr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4387680"/>
            <a:ext cx="4953240" cy="243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blastfusion[]&gt; query_object $m/net: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attr(NET_WEIGHT)         =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attr(USE)               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attr(clock_tree_levels)  =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attr(drc_checkmark_attr) = 536877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attr(global_route_flag)  =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attr(gr_assigned_layer)  = -1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attr(is_clock)          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attr(name)               =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attr(type)               = 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952880" y="1447920"/>
            <a:ext cx="3799080" cy="609120"/>
            <a:chOff x="4952880" y="1447920"/>
            <a:chExt cx="3799080" cy="609120"/>
          </a:xfrm>
        </p:grpSpPr>
        <p:sp>
          <p:nvSpPr>
            <p:cNvPr id="165" name=""/>
            <p:cNvSpPr/>
            <p:nvPr/>
          </p:nvSpPr>
          <p:spPr>
            <a:xfrm>
              <a:off x="6858000" y="1447920"/>
              <a:ext cx="1893960" cy="58068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et a lis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alid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952880" y="1828440"/>
              <a:ext cx="190512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477120" y="2286000"/>
            <a:ext cx="2504160" cy="1952280"/>
            <a:chOff x="6477120" y="2286000"/>
            <a:chExt cx="2504160" cy="1952280"/>
          </a:xfrm>
        </p:grpSpPr>
        <p:sp>
          <p:nvSpPr>
            <p:cNvPr id="168" name=""/>
            <p:cNvSpPr/>
            <p:nvPr/>
          </p:nvSpPr>
          <p:spPr>
            <a:xfrm>
              <a:off x="6477120" y="2286000"/>
              <a:ext cx="304560" cy="129528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58000" y="2971800"/>
              <a:ext cx="762120" cy="6858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2200" y="3657600"/>
              <a:ext cx="1819080" cy="58068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apture values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ll attribu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85800" y="4267080"/>
            <a:ext cx="1628640" cy="1571400"/>
            <a:chOff x="685800" y="4267080"/>
            <a:chExt cx="1628640" cy="1571400"/>
          </a:xfrm>
        </p:grpSpPr>
        <p:sp>
          <p:nvSpPr>
            <p:cNvPr id="172" name=""/>
            <p:cNvSpPr/>
            <p:nvPr/>
          </p:nvSpPr>
          <p:spPr>
            <a:xfrm>
              <a:off x="1447920" y="4267080"/>
              <a:ext cx="0" cy="9907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" y="5257800"/>
              <a:ext cx="1628640" cy="58068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int out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rray “attr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object relations dump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066680"/>
            <a:ext cx="7035840" cy="3014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print all relations of an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query_relations {obj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 set rel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lationList 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data list relations $obj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relationName $relationLis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data list $relationName $obj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{[string length $value]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l($relationName) $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rray r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4267080"/>
            <a:ext cx="8305560" cy="17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</a:rPr>
              <a:t>blastfusion[]&gt; query_relations $m/net: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</a:rPr>
              <a:t>rel(net_box)      = {21.2u 976.7u 0.29u 0.2u METAL3 routing /work/demod/demod/net:clock virtual}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</a:rPr>
              <a:t>rel(net_leadnet)  = /work/demod/demod/net: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</a:rPr>
              <a:t>rel(net_model)    = /work/demod/de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</a:rPr>
              <a:t>rel(net_pin)      = /work/demod/demod/mpin:clock /work/demod/demod/clock_L0/pin: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</a:rPr>
              <a:t>rel(net_pin_leaf) = /work/demod/demod/mpin:clock /work/demod/demod/clock_L0/pin: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</a:rPr>
              <a:t>rel(net_rootnet)  = /work/demod/demod/net: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Courier New"/>
              </a:rPr>
              <a:t>rel(net_splitnet) = /work/demod/demod/net: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553080" y="2209680"/>
            <a:ext cx="2166840" cy="1723680"/>
            <a:chOff x="6553080" y="2209680"/>
            <a:chExt cx="2166840" cy="1723680"/>
          </a:xfrm>
        </p:grpSpPr>
        <p:sp>
          <p:nvSpPr>
            <p:cNvPr id="178" name=""/>
            <p:cNvSpPr/>
            <p:nvPr/>
          </p:nvSpPr>
          <p:spPr>
            <a:xfrm>
              <a:off x="6553080" y="22096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58000" y="2666880"/>
              <a:ext cx="762120" cy="6858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18960" y="3352680"/>
              <a:ext cx="2100960" cy="58068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valuate all poss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elationshi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095880" y="1295280"/>
            <a:ext cx="2610360" cy="609480"/>
            <a:chOff x="6095880" y="1295280"/>
            <a:chExt cx="2610360" cy="609480"/>
          </a:xfrm>
        </p:grpSpPr>
        <p:sp>
          <p:nvSpPr>
            <p:cNvPr id="182" name=""/>
            <p:cNvSpPr/>
            <p:nvPr/>
          </p:nvSpPr>
          <p:spPr>
            <a:xfrm>
              <a:off x="6792840" y="1295280"/>
              <a:ext cx="1913400" cy="58068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et a lis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alid relationshi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095880" y="1676160"/>
              <a:ext cx="68580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09680" y="3429000"/>
            <a:ext cx="2837160" cy="580680"/>
            <a:chOff x="2209680" y="3429000"/>
            <a:chExt cx="2837160" cy="580680"/>
          </a:xfrm>
        </p:grpSpPr>
        <p:sp>
          <p:nvSpPr>
            <p:cNvPr id="185" name=""/>
            <p:cNvSpPr/>
            <p:nvPr/>
          </p:nvSpPr>
          <p:spPr>
            <a:xfrm>
              <a:off x="2209680" y="3733920"/>
              <a:ext cx="144792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68400" y="3429000"/>
              <a:ext cx="1378440" cy="580680"/>
            </a:xfrm>
            <a:prstGeom prst="rect">
              <a:avLst/>
            </a:prstGeom>
            <a:solidFill>
              <a:srgbClr val="8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int out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rray “rel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mrel2_net" descr=""/>
          <p:cNvPicPr/>
          <p:nvPr/>
        </p:nvPicPr>
        <p:blipFill>
          <a:blip r:embed="rId1"/>
          <a:stretch/>
        </p:blipFill>
        <p:spPr>
          <a:xfrm>
            <a:off x="914400" y="882720"/>
            <a:ext cx="6858000" cy="5975280"/>
          </a:xfrm>
          <a:prstGeom prst="rect">
            <a:avLst/>
          </a:prstGeom>
          <a:ln w="0">
            <a:noFill/>
          </a:ln>
        </p:spPr>
      </p:pic>
      <p:pic>
        <p:nvPicPr>
          <p:cNvPr id="188" name="mrel2_cell" descr=""/>
          <p:cNvPicPr/>
          <p:nvPr/>
        </p:nvPicPr>
        <p:blipFill>
          <a:blip r:embed="rId2"/>
          <a:stretch/>
        </p:blipFill>
        <p:spPr>
          <a:xfrm>
            <a:off x="1600200" y="882720"/>
            <a:ext cx="7010280" cy="59752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lot more relations to explore!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mrel2_pin" descr=""/>
          <p:cNvPicPr/>
          <p:nvPr/>
        </p:nvPicPr>
        <p:blipFill>
          <a:blip r:embed="rId3"/>
          <a:stretch/>
        </p:blipFill>
        <p:spPr>
          <a:xfrm>
            <a:off x="2057400" y="838080"/>
            <a:ext cx="6019920" cy="6019920"/>
          </a:xfrm>
          <a:prstGeom prst="rect">
            <a:avLst/>
          </a:prstGeom>
          <a:ln w="0">
            <a:noFill/>
          </a:ln>
        </p:spPr>
      </p:pic>
      <p:pic>
        <p:nvPicPr>
          <p:cNvPr id="191" name="mrel1" descr=""/>
          <p:cNvPicPr/>
          <p:nvPr/>
        </p:nvPicPr>
        <p:blipFill>
          <a:blip r:embed="rId4"/>
          <a:stretch/>
        </p:blipFill>
        <p:spPr>
          <a:xfrm>
            <a:off x="1752480" y="861840"/>
            <a:ext cx="640080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lots of data access functions...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data_cd_cmd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73152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more examples in paper...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371600"/>
            <a:ext cx="8534520" cy="17974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report all connected to obj, which could be a net, pin or ce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astfusion[]&gt; report_all_connected $m/clock_L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 = $m/clock_L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ll_pin -&gt; $m/clock_L0/pin: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m/clock_L0/pin: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m/clock_L0/pin:VSS $m/clock_L0/pin:V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32280" y="61135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352680"/>
            <a:ext cx="7010280" cy="13107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astfusion[]&gt; report_all_connect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m/clock_L0/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 = $m/clock_L0/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n_net -&gt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m/net:clock_78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n_cell -&gt; $m/clock_L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4952880"/>
            <a:ext cx="7010280" cy="10674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astfusion[]&gt; report_all_connect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m/clock_7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 = $m/clock_7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t_pin -&gt; $m/CLK_SC_clock_524/pin:P0 $m/clock_L0/pin: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743200"/>
            <a:ext cx="0" cy="6858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4343400"/>
            <a:ext cx="1447920" cy="6094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more examples in paper...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3505320"/>
            <a:ext cx="8077320" cy="20408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report longest wires with their cap val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astfusion[]&gt; report_wire_length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ngth     pinCap    wireCap    net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=====     ======    =======    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92 u       0 fF     313 fF    ram_out3[8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73 u       0 fF     364 fF    ram_out3[8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447920"/>
            <a:ext cx="8077320" cy="13107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report cap and length stats on all clock 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astfusion[]&gt; report_clocknet_cap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t = $m/net:clock length= 539.3u pinCap=  15.8f wireCap=  87.2f capPerLen=0.161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more examples in paper...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447920"/>
            <a:ext cx="8534520" cy="17974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list of highest slew at clock end point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astfusion[]&gt; report_worst_clockend_slew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st slew at clock end poi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lew=0.239n      sink=mem2.ram_a/CKP     driver=clock_L6_124/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lew=0.236n      sink=mem2.ram_b/CKP     driver=clock_L6_123/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443320" y="3522600"/>
            <a:ext cx="36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he end…extra slides follow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contents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166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10960" indent="0"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gma data mod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5872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paration of objects (cell, net, pin etc…) from relationships (cell_model, pin_box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5872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l-based API for query and upd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re about objects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5872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g origi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5872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nershi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g nets own wire boxes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58720" indent="-228600"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g pin-&gt;ne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me examp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g: using cell_pin and pin_ne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4343040"/>
            <a:ext cx="8217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1096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590400" y="1247760"/>
            <a:ext cx="7410600" cy="20408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report all nets connected to cell $ob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report_all_nets_connected_to_cell {obj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"cell = $obj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 loop pin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ell_p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$obj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et [data only "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pin_net -scope logical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 $pi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"$pin -&gt; $n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20800" y="4952880"/>
            <a:ext cx="7038720" cy="13716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lastfusion[]&gt; report_all_nets_connected_to_cell $m/clock_L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ell = /work/demod/demod/clock_L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work/demod/demod/clock_L0/pin:A        -&gt; /work/demod/demod/net: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work/demod/demod/clock_L0/pin:Y        -&gt; /work/demod/demod/net:clock_7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work/demod/demod/clock_L0/pin:VSS      -&gt; /work/demod/demod/net:V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work/demod/demod/clock_L0/pin:VDD      -&gt; /work/demod/demod/net:V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962520" y="2895480"/>
          <a:ext cx="4800600" cy="19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895480"/>
                    <a:ext cx="4800600" cy="1920960"/>
                  </a:xfrm>
                  <a:prstGeom prst="rect">
                    <a:avLst/>
                  </a:prstGeom>
                  <a:ln w="381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g: using pin_cell and net_pi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143000"/>
            <a:ext cx="5333760" cy="24382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report all cells connected to net $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report_all_cells_connected_to_net {obj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ts "net = $obj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ata loop pin "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t_pin -type p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 $obj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cell [data only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pin_ce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$pin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ts "$pin -&gt; $cell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ata loop mpin "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net_pin -type mp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 $obj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ts "$mpin -&gt; (model)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15560" y="4876920"/>
            <a:ext cx="6901560" cy="1159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lastfusion[]&gt; report_all_cells_connected_to_net $m/net: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 = /work/demod/demod/net: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work/demod/demod/clock_L0/pin:A  -&gt; /work/demod/demod/clock_L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work/demod/demod/mpin:clock      -&gt; (mod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19520" y="3657600"/>
          <a:ext cx="4647960" cy="11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657600"/>
                    <a:ext cx="4647960" cy="1162080"/>
                  </a:xfrm>
                  <a:prstGeom prst="rect">
                    <a:avLst/>
                  </a:prstGeom>
                  <a:ln w="38160">
                    <a:solidFill>
                      <a:srgbClr val="8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own3" descr=""/>
          <p:cNvPicPr/>
          <p:nvPr/>
        </p:nvPicPr>
        <p:blipFill>
          <a:blip r:embed="rId1"/>
          <a:stretch/>
        </p:blipFill>
        <p:spPr>
          <a:xfrm>
            <a:off x="0" y="1600200"/>
            <a:ext cx="8610480" cy="27781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relation doesn’t imply ownership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627480" y="4572000"/>
            <a:ext cx="803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list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del_box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$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s boxes actually encapsulated by cells, pins, nets and mp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ll boxes actually belong it’s cell_model (ie BUFX20)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543800" y="1676520"/>
          <a:ext cx="1209600" cy="60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1676520"/>
                    <a:ext cx="12096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019920" y="2286000"/>
          <a:ext cx="1209600" cy="60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19920" y="2286000"/>
                    <a:ext cx="12096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5943600" y="2971800"/>
          <a:ext cx="1209600" cy="60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3600" y="2971800"/>
                    <a:ext cx="12096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019920" y="3657600"/>
          <a:ext cx="120960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19920" y="3657600"/>
                    <a:ext cx="12096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cmd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934320" cy="6321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29240" y="2971800"/>
            <a:ext cx="5278680" cy="703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ts of query command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just shows examples of “query node”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g: using query command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295280"/>
            <a:ext cx="8305920" cy="25275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report cap and length stats on a 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report_net_caplength {obj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length      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query net length $obj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inCap      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query net capacitance $obj -type p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wireCap     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query net capacitance $obj -type wi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apPerLen  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postfix [expr [unfix $wireCap] / [unfix $length]]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"net = $obj length=$length pinCap=$pinCap wireCap=$wireCap capPerLen=$capPerLe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4876920"/>
            <a:ext cx="7772400" cy="103716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lastfusion[]&gt; report_net_caplength $m/net: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t = /work/demod/demod/net:clock length=539.3u pinCap=15.8f wireCap=87.2f capPerLen=0.16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g: using query command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239840"/>
            <a:ext cx="5638680" cy="25628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port stats on all clock 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report_clocknet_caplength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loop ne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model_n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m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[query net is_clock $net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ort_net_caplength $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4343400"/>
            <a:ext cx="8534520" cy="1585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lastfusion[]&gt; report_clocknet_cap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 = /work/demod/demod/net:clock_1 length=21.4u pinCap=400.0f wireCap=4.1f capPerLen=0.19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t = /work/demod/demod/net:clock_2 length=30.4u pinCap=3.7f wireCap=6.5f capPerLen=0.21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455200" y="3522600"/>
            <a:ext cx="36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lide intentionally left blank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sources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217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08800" indent="-20880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Blast Fusion Data Model, version 1.0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5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gma app note from September 20, 200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5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8800" indent="-20880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 Model and mTC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5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slides from Magma Bootcamp Training Clas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5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8800" indent="-20880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cripts and Conversations with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5296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gma AEs: Anthony Galdes and Satyen Bhai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5296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eagues: Amod Kale, Anil Kolli, Bob Pone, Chongqing Wu, Claude Hayek, Harpreet Anand, Harpreet Gill, Jingjing Xu, Mike Asker, Tim Sippel, Viki Moldenhau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5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08800" indent="-208800">
              <a:lnSpc>
                <a:spcPct val="110000"/>
              </a:lnSpc>
              <a:spcBef>
                <a:spcPts val="53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Cognitive Style of PowerPoint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y Edward Tuft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8800" indent="0">
              <a:lnSpc>
                <a:spcPct val="11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08800" indent="-208800">
              <a:lnSpc>
                <a:spcPct val="110000"/>
              </a:lnSpc>
              <a:spcBef>
                <a:spcPts val="539"/>
              </a:spcBef>
              <a:buClr>
                <a:srgbClr val="000000"/>
              </a:buClr>
              <a:buSzPct val="125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raphs created using dotty, slides using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(unfortunately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powerpoin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examples of object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-533520" y="1600200"/>
          <a:ext cx="10439640" cy="45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1600200"/>
                    <a:ext cx="1043964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object attributes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562720"/>
            <a:ext cx="7619760" cy="6426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lastfusion[]&gt; data get $m/clock_788 net_driver_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39880" y="1468440"/>
          <a:ext cx="7466040" cy="39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468440"/>
                    <a:ext cx="7466040" cy="39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object ownership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893960" y="5638680"/>
            <a:ext cx="57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 object under root has at least one 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wn4" descr=""/>
          <p:cNvPicPr/>
          <p:nvPr/>
        </p:nvPicPr>
        <p:blipFill>
          <a:blip r:embed="rId1"/>
          <a:stretch/>
        </p:blipFill>
        <p:spPr>
          <a:xfrm>
            <a:off x="41400" y="1327320"/>
            <a:ext cx="906120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wn3" descr=""/>
          <p:cNvPicPr/>
          <p:nvPr/>
        </p:nvPicPr>
        <p:blipFill>
          <a:blip r:embed="rId1"/>
          <a:srcRect l="0" t="0" r="25264" b="0"/>
          <a:stretch/>
        </p:blipFill>
        <p:spPr>
          <a:xfrm>
            <a:off x="152280" y="1676520"/>
            <a:ext cx="8264520" cy="3903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name follows ownership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somewhat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5638680"/>
            <a:ext cx="1676160" cy="1600200"/>
          </a:xfrm>
          <a:custGeom>
            <a:avLst/>
            <a:gdLst>
              <a:gd name="textAreaLeft" fmla="*/ 0 w 1676160"/>
              <a:gd name="textAreaRight" fmla="*/ 605160 w 1676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3352680"/>
            <a:ext cx="3352680" cy="2438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5791320"/>
            <a:ext cx="1295640" cy="76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1447920"/>
            <a:ext cx="8610480" cy="4818240"/>
            <a:chOff x="0" y="1447920"/>
            <a:chExt cx="8610480" cy="4818240"/>
          </a:xfrm>
        </p:grpSpPr>
        <p:grpSp>
          <p:nvGrpSpPr>
            <p:cNvPr id="111" name=""/>
            <p:cNvGrpSpPr/>
            <p:nvPr/>
          </p:nvGrpSpPr>
          <p:grpSpPr>
            <a:xfrm>
              <a:off x="0" y="1447920"/>
              <a:ext cx="8610480" cy="4818240"/>
              <a:chOff x="0" y="1447920"/>
              <a:chExt cx="8610480" cy="481824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0" y="1447920"/>
                <a:ext cx="8610480" cy="4343400"/>
                <a:chOff x="0" y="1447920"/>
                <a:chExt cx="8610480" cy="43434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0" y="1447920"/>
                  <a:ext cx="5257800" cy="434340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029200" y="1676520"/>
                  <a:ext cx="3581280" cy="1447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1819080" y="5867280"/>
                <a:ext cx="599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$m:clock_L0 is an instantiation of $l/BUF/BUFX2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3124080"/>
              <a:ext cx="2895840" cy="274320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name follows ownership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somewhat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own3" descr=""/>
          <p:cNvPicPr/>
          <p:nvPr/>
        </p:nvPicPr>
        <p:blipFill>
          <a:blip r:embed="rId1"/>
          <a:srcRect l="25264" t="0" r="0" b="0"/>
          <a:stretch/>
        </p:blipFill>
        <p:spPr>
          <a:xfrm>
            <a:off x="380880" y="1828800"/>
            <a:ext cx="8264520" cy="39038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04920" y="1523880"/>
            <a:ext cx="8142480" cy="4818240"/>
            <a:chOff x="304920" y="1523880"/>
            <a:chExt cx="8142480" cy="4818240"/>
          </a:xfrm>
        </p:grpSpPr>
        <p:grpSp>
          <p:nvGrpSpPr>
            <p:cNvPr id="120" name=""/>
            <p:cNvGrpSpPr/>
            <p:nvPr/>
          </p:nvGrpSpPr>
          <p:grpSpPr>
            <a:xfrm>
              <a:off x="304920" y="1523880"/>
              <a:ext cx="7714800" cy="4343400"/>
              <a:chOff x="304920" y="1523880"/>
              <a:chExt cx="7714800" cy="4343400"/>
            </a:xfrm>
          </p:grpSpPr>
          <p:sp>
            <p:nvSpPr>
              <p:cNvPr id="121" name=""/>
              <p:cNvSpPr/>
              <p:nvPr/>
            </p:nvSpPr>
            <p:spPr>
              <a:xfrm>
                <a:off x="304920" y="1523880"/>
                <a:ext cx="4710960" cy="4343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11040" y="1752480"/>
                <a:ext cx="3208680" cy="1447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800640" y="5943240"/>
              <a:ext cx="764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$m:clock_L0/pin:A is an instantiation of $l/BUF/BUFX20/mpin: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5867280" y="3124080"/>
            <a:ext cx="2895840" cy="274320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693252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object relations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6" name="rel4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19782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3047760"/>
            <a:ext cx="8217000" cy="2971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lastfusion[]&gt; data lis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ell_p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m/cell:clock_L0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work/demod/demod/cell:clock_L0/pin:A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work/demod/demod/cell:clock_L0/pin: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work/demod/demod/cell:clock_L0/pin:VS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work/demod/demod/cell:clock_L0/pin:VDD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lastfusion[]&gt; data lis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net_p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m/net:clock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work/demod/demod/mpin:clock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10960" indent="0">
              <a:lnSpc>
                <a:spcPct val="90000"/>
              </a:lnSpc>
              <a:spcBef>
                <a:spcPts val="53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work/demod/demod/clock_L0/pin:A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20:55:31Z</dcterms:created>
  <dc:creator/>
  <dc:description/>
  <dc:language>en-US</dc:language>
  <cp:lastModifiedBy>Carol McElroy</cp:lastModifiedBy>
  <cp:lastPrinted>2003-09-14T06:34:06Z</cp:lastPrinted>
  <dcterms:modified xsi:type="dcterms:W3CDTF">2003-09-18T18:29:39Z</dcterms:modified>
  <cp:revision>72</cp:revision>
  <dc:subject/>
  <dc:title>magma fusion presentation from broadcom</dc:title>
</cp:coreProperties>
</file>