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80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80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0040" y="123480"/>
            <a:ext cx="678024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800" y="114264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800" y="3889080"/>
            <a:ext cx="2650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0040" y="123480"/>
            <a:ext cx="678024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7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889080"/>
            <a:ext cx="8232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53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3440" indent="-235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3440" indent="-235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3440" indent="-23508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04560" y="685800"/>
            <a:ext cx="6629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304920" y="6553080"/>
            <a:ext cx="8534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75080" y="6411960"/>
            <a:ext cx="38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F6D6-A1D4-4BF6-9C72-880E1519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2920" y="123840"/>
            <a:ext cx="16761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943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0280" y="62928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4920" y="1905120"/>
            <a:ext cx="8534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8120" y="4572000"/>
            <a:ext cx="27432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*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68360" algn="ctr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68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68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ing out WASS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MA tool sui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i Krishnan Puravanka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SI System Business Uni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PRO Technologies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Volcano Prepa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1523880"/>
            <a:ext cx="7686720" cy="4362480"/>
            <a:chOff x="609480" y="1523880"/>
            <a:chExt cx="7686720" cy="4362480"/>
          </a:xfrm>
        </p:grpSpPr>
        <p:sp>
          <p:nvSpPr>
            <p:cNvPr id="312" name=""/>
            <p:cNvSpPr/>
            <p:nvPr/>
          </p:nvSpPr>
          <p:spPr>
            <a:xfrm>
              <a:off x="609480" y="1523880"/>
              <a:ext cx="2362320" cy="68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IO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6720" y="1523880"/>
              <a:ext cx="2361960" cy="68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Standard Cell Volc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4240" y="1523880"/>
              <a:ext cx="2361960" cy="68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Macro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6760" y="2743200"/>
              <a:ext cx="4724640" cy="762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Design Lib Volcano Pr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5160" y="4082400"/>
              <a:ext cx="349092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Library Checks and Vali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5200560"/>
              <a:ext cx="2361960" cy="68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Hidden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6920" y="5200560"/>
              <a:ext cx="2361960" cy="68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Domina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2209680"/>
              <a:ext cx="0" cy="53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2" idx="2"/>
              <a:endCxn id="315" idx="1"/>
            </p:cNvCxnSpPr>
            <p:nvPr/>
          </p:nvCxnSpPr>
          <p:spPr>
            <a:xfrm flipH="1" rot="16200000">
              <a:off x="1471680" y="2541240"/>
              <a:ext cx="902160" cy="2642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14" idx="2"/>
              <a:endCxn id="315" idx="3"/>
            </p:cNvCxnSpPr>
            <p:nvPr/>
          </p:nvCxnSpPr>
          <p:spPr>
            <a:xfrm rot="5400000">
              <a:off x="6508080" y="2517840"/>
              <a:ext cx="902160" cy="31176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2" name=""/>
            <p:cNvSpPr/>
            <p:nvPr/>
          </p:nvSpPr>
          <p:spPr>
            <a:xfrm>
              <a:off x="4419720" y="3505320"/>
              <a:ext cx="0" cy="533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"/>
            <p:cNvCxnSpPr>
              <a:stCxn id="316" idx="2"/>
              <a:endCxn id="317" idx="0"/>
            </p:cNvCxnSpPr>
            <p:nvPr/>
          </p:nvCxnSpPr>
          <p:spPr>
            <a:xfrm rot="5400000">
              <a:off x="3282120" y="4049640"/>
              <a:ext cx="713520" cy="1564200"/>
            </a:xfrm>
            <a:prstGeom prst="bentConnector3">
              <a:avLst>
                <a:gd name="adj1" fmla="val 49873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"/>
            <p:cNvCxnSpPr>
              <a:stCxn id="316" idx="2"/>
              <a:endCxn id="318" idx="0"/>
            </p:cNvCxnSpPr>
            <p:nvPr/>
          </p:nvCxnSpPr>
          <p:spPr>
            <a:xfrm flipH="1" rot="16200000">
              <a:off x="4882320" y="4012920"/>
              <a:ext cx="713520" cy="1637640"/>
            </a:xfrm>
            <a:prstGeom prst="bentConnector3">
              <a:avLst>
                <a:gd name="adj1" fmla="val 49873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Placement Optim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142640"/>
            <a:ext cx="617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netlist and constraint validation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understanding of timing using ESP &a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re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ve Slack Balancing  techniq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 buffer removal on the data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load balancing on high fan-out n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553080" y="1143000"/>
            <a:ext cx="2143080" cy="4419720"/>
            <a:chOff x="6553080" y="1143000"/>
            <a:chExt cx="2143080" cy="4419720"/>
          </a:xfrm>
        </p:grpSpPr>
        <p:sp>
          <p:nvSpPr>
            <p:cNvPr id="328" name=""/>
            <p:cNvSpPr/>
            <p:nvPr/>
          </p:nvSpPr>
          <p:spPr>
            <a:xfrm>
              <a:off x="6553080" y="1143000"/>
              <a:ext cx="2143080" cy="457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Netlist Che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3080" y="2133720"/>
              <a:ext cx="2143080" cy="457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Constraint Che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3080" y="3124440"/>
              <a:ext cx="2143080" cy="457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Supercell based Optimiz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53080" y="4114800"/>
              <a:ext cx="2133720" cy="457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Timing Re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105520"/>
              <a:ext cx="2143080" cy="457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079"/>
                </a:gs>
              </a:gsLst>
              <a:lin ang="135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Physical Bi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6080" y="1600200"/>
              <a:ext cx="0" cy="53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96080" y="2590920"/>
              <a:ext cx="0" cy="53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96080" y="3581640"/>
              <a:ext cx="0" cy="533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6080" y="4572000"/>
              <a:ext cx="0" cy="53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orplanning and Powerpl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548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i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5x5 mms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p Pow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.2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IO P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25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nd Pad can be placed with IO pa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 based floor plan cre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 based floor plan flow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tile blockage declaration sty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wer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fl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ng and strap based power routing for macr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 to IO power routing feature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s, shorts and DRC checks can be performed on the power rou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882880" cy="26254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895840" cy="28749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ment and Leg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143000"/>
            <a:ext cx="564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ck tree constraints defined he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 cell based optimization and legaliz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a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cement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congestion analysis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convergence can be accurately predic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tile placement clustering support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post placement optim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3210120" cy="318780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S and Optim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586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 routes clock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 cells based clock tree synthesis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talk prevention in clock n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 skew feature can be u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tile clock tree techniq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ck net routing is customizabl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post clock tree based buf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mental timing corre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cell concept usefu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429000" cy="3403440"/>
          </a:xfrm>
          <a:prstGeom prst="rect">
            <a:avLst/>
          </a:prstGeom>
          <a:ln w="1908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route and DRC/LV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142640"/>
            <a:ext cx="5259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aware final ro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og rou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power nets is a useful fea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ield and space rou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chniques available for Xtalk pre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de metal rou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vents signal net EM iss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 issues can be tackled while ro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le width feature enables effective routing contr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llent routing refinements including area based refin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l filler insertion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top level and area based DRC chec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box level LVS checks supp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DSII merge and export feature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3276360" cy="33195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 off Ver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 – Prim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in 1-3% corre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C – Ass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 – Ass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VS – Assu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lock level LVS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ion – Si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2% in 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Integrity - Cel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vio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capability considering Lithographic iss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 should include more options like clock tree preserve, clock tree exclude etc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floor planning capability like gui based floor plan,  special bond pad connection etc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have capability to read in parasitic rule files from sign-off to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st Fusion should have an option to preserve module level hierarchi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st Fusion should have option to  do AreaIO-FP based floor pl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BU – Providing end to en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1143000"/>
            <a:ext cx="8839080" cy="5031000"/>
            <a:chOff x="152280" y="1143000"/>
            <a:chExt cx="8839080" cy="5031000"/>
          </a:xfrm>
        </p:grpSpPr>
        <p:sp>
          <p:nvSpPr>
            <p:cNvPr id="89" name=""/>
            <p:cNvSpPr/>
            <p:nvPr/>
          </p:nvSpPr>
          <p:spPr>
            <a:xfrm>
              <a:off x="831600" y="2819520"/>
              <a:ext cx="2414520" cy="2143080"/>
            </a:xfrm>
            <a:custGeom>
              <a:avLst/>
              <a:gdLst/>
              <a:ahLst/>
              <a:rect l="l" t="t" r="r" b="b"/>
              <a:pathLst>
                <a:path w="1524" h="1350">
                  <a:moveTo>
                    <a:pt x="24" y="30"/>
                  </a:moveTo>
                  <a:lnTo>
                    <a:pt x="0" y="1350"/>
                  </a:lnTo>
                  <a:lnTo>
                    <a:pt x="1524" y="1302"/>
                  </a:lnTo>
                  <a:lnTo>
                    <a:pt x="804" y="0"/>
                  </a:lnTo>
                  <a:lnTo>
                    <a:pt x="24" y="3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1760" y="2514600"/>
              <a:ext cx="1447920" cy="639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Hardwa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1600" y="4508640"/>
              <a:ext cx="2452680" cy="10065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AS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System on 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Board / FPGA 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6920" y="1371600"/>
              <a:ext cx="7866000" cy="4267440"/>
            </a:xfrm>
            <a:custGeom>
              <a:avLst/>
              <a:gdLst/>
              <a:ahLst/>
              <a:rect l="l" t="t" r="r" b="b"/>
              <a:pathLst>
                <a:path w="4368" h="2496">
                  <a:moveTo>
                    <a:pt x="0" y="0"/>
                  </a:moveTo>
                  <a:lnTo>
                    <a:pt x="0" y="2496"/>
                  </a:lnTo>
                  <a:lnTo>
                    <a:pt x="4368" y="2496"/>
                  </a:lnTo>
                  <a:lnTo>
                    <a:pt x="43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238000">
              <a:off x="4560480" y="1663560"/>
              <a:ext cx="862200" cy="380880"/>
            </a:xfrm>
            <a:prstGeom prst="rightArrow">
              <a:avLst>
                <a:gd name="adj1" fmla="val 35907"/>
                <a:gd name="adj2" fmla="val 51824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6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32120" y="1371600"/>
              <a:ext cx="2544840" cy="2133720"/>
            </a:xfrm>
            <a:custGeom>
              <a:avLst/>
              <a:gdLst/>
              <a:ahLst/>
              <a:rect l="l" t="t" r="r" b="b"/>
              <a:pathLst>
                <a:path w="1524" h="1350">
                  <a:moveTo>
                    <a:pt x="24" y="30"/>
                  </a:moveTo>
                  <a:lnTo>
                    <a:pt x="0" y="1350"/>
                  </a:lnTo>
                  <a:lnTo>
                    <a:pt x="1524" y="1302"/>
                  </a:lnTo>
                  <a:lnTo>
                    <a:pt x="804" y="0"/>
                  </a:lnTo>
                  <a:lnTo>
                    <a:pt x="24" y="3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6040" y="1143000"/>
              <a:ext cx="1555920" cy="7621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Product Realization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3680" y="2895840"/>
              <a:ext cx="2676600" cy="1523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System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Reference 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Product 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Turnkey silicon manufactu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1840" y="2257560"/>
              <a:ext cx="2546280" cy="2143080"/>
            </a:xfrm>
            <a:custGeom>
              <a:avLst/>
              <a:gdLst/>
              <a:ahLst/>
              <a:rect l="l" t="t" r="r" b="b"/>
              <a:pathLst>
                <a:path w="1524" h="1350">
                  <a:moveTo>
                    <a:pt x="24" y="30"/>
                  </a:moveTo>
                  <a:lnTo>
                    <a:pt x="0" y="1350"/>
                  </a:lnTo>
                  <a:lnTo>
                    <a:pt x="1524" y="1302"/>
                  </a:lnTo>
                  <a:lnTo>
                    <a:pt x="804" y="0"/>
                  </a:lnTo>
                  <a:lnTo>
                    <a:pt x="24" y="3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1905120"/>
              <a:ext cx="1447560" cy="639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Technolog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2760" y="3870360"/>
              <a:ext cx="2565360" cy="1082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aramond"/>
                </a:rPr>
                <a:t>Driv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aramond"/>
                </a:rPr>
                <a:t>Middle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aramond"/>
                </a:rPr>
                <a:t>Network Mgm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Embedded 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38000">
              <a:off x="2290320" y="2361960"/>
              <a:ext cx="793440" cy="372960"/>
            </a:xfrm>
            <a:prstGeom prst="rightArrow">
              <a:avLst>
                <a:gd name="adj1" fmla="val 35907"/>
                <a:gd name="adj2" fmla="val 48704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>
                    <a:alpha val="78039"/>
                  </a:srgbClr>
                </a:gs>
                <a:gs pos="100000">
                  <a:srgbClr val="750000"/>
                </a:gs>
              </a:gsLst>
              <a:lin ang="6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580572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27080" y="580572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i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60680" y="580572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5280" y="580572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920" y="563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6520" y="563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08320" y="563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22920" y="563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enix – WIPRO’s PD method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66680" y="1447920"/>
            <a:ext cx="6658200" cy="4647960"/>
            <a:chOff x="1066680" y="1447920"/>
            <a:chExt cx="6658200" cy="46479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670720" y="5462640"/>
              <a:ext cx="779400" cy="38736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6319800" y="4827600"/>
              <a:ext cx="843120" cy="3524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790800" y="1589040"/>
              <a:ext cx="582840" cy="4222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2039760" y="1870200"/>
              <a:ext cx="712800" cy="4222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5346720" y="1728720"/>
              <a:ext cx="714240" cy="33516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3726000" y="5180040"/>
              <a:ext cx="907920" cy="4222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>
              <a:off x="1455840" y="5462640"/>
              <a:ext cx="907920" cy="4222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2752560" y="5743440"/>
              <a:ext cx="973440" cy="3524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119" name=""/>
            <p:cNvSpPr/>
            <p:nvPr/>
          </p:nvSpPr>
          <p:spPr>
            <a:xfrm>
              <a:off x="3530520" y="3208320"/>
              <a:ext cx="1751040" cy="116208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>
                    <a:alpha val="98039"/>
                  </a:srgbClr>
                </a:gs>
                <a:gs pos="100000">
                  <a:srgbClr val="5e7575"/>
                </a:gs>
              </a:gsLst>
              <a:lin ang="5400000"/>
            </a:gra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Book Antiqua"/>
                </a:rPr>
                <a:t>Phoen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2880" y="2081160"/>
              <a:ext cx="1384200" cy="56376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Std Cell/ Custom cell library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9"/>
            <a:stretch/>
          </p:blipFill>
          <p:spPr>
            <a:xfrm>
              <a:off x="2882880" y="1447920"/>
              <a:ext cx="623880" cy="4222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5216400" y="2222640"/>
              <a:ext cx="1038240" cy="5634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FA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6384960" y="2152800"/>
              <a:ext cx="623880" cy="350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5029200" y="4757760"/>
              <a:ext cx="1160640" cy="5634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Packaging hou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4687920"/>
              <a:ext cx="1179360" cy="63324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EDA to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8746400">
              <a:off x="3466800" y="4398840"/>
              <a:ext cx="387360" cy="260280"/>
            </a:xfrm>
            <a:prstGeom prst="leftRightArrow">
              <a:avLst>
                <a:gd name="adj1" fmla="val 50000"/>
                <a:gd name="adj2" fmla="val 29627"/>
              </a:avLst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82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4172000">
              <a:off x="4763880" y="4468680"/>
              <a:ext cx="387360" cy="260280"/>
            </a:xfrm>
            <a:prstGeom prst="leftRightArrow">
              <a:avLst>
                <a:gd name="adj1" fmla="val 50000"/>
                <a:gd name="adj2" fmla="val 29627"/>
              </a:avLst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1282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4172000">
              <a:off x="3561480" y="2814840"/>
              <a:ext cx="457200" cy="258840"/>
            </a:xfrm>
            <a:prstGeom prst="leftRightArrow">
              <a:avLst>
                <a:gd name="adj1" fmla="val 50000"/>
                <a:gd name="adj2" fmla="val 35163"/>
              </a:avLst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1282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676200">
              <a:off x="4893120" y="2850480"/>
              <a:ext cx="387360" cy="258480"/>
            </a:xfrm>
            <a:prstGeom prst="leftRightArrow">
              <a:avLst>
                <a:gd name="adj1" fmla="val 50000"/>
                <a:gd name="adj2" fmla="val 29833"/>
              </a:avLst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832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48040" y="3630600"/>
              <a:ext cx="420480" cy="282600"/>
            </a:xfrm>
            <a:prstGeom prst="leftRightArrow">
              <a:avLst>
                <a:gd name="adj1" fmla="val 50000"/>
                <a:gd name="adj2" fmla="val 29620"/>
              </a:avLst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3419640"/>
              <a:ext cx="1141200" cy="63324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SPEC/RTL/ Net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720" y="3429000"/>
              <a:ext cx="1011240" cy="565200"/>
            </a:xfrm>
            <a:prstGeom prst="rightArrow">
              <a:avLst>
                <a:gd name="adj1" fmla="val 50000"/>
                <a:gd name="adj2" fmla="val 44729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1"/>
            <a:stretch/>
          </p:blipFill>
          <p:spPr>
            <a:xfrm>
              <a:off x="6810480" y="3216240"/>
              <a:ext cx="914400" cy="8938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34" name="" descr=""/>
            <p:cNvPicPr/>
            <p:nvPr/>
          </p:nvPicPr>
          <p:blipFill>
            <a:blip r:embed="rId12"/>
            <a:stretch/>
          </p:blipFill>
          <p:spPr>
            <a:xfrm>
              <a:off x="1066680" y="2855880"/>
              <a:ext cx="649440" cy="528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35" name="" descr=""/>
            <p:cNvPicPr/>
            <p:nvPr/>
          </p:nvPicPr>
          <p:blipFill>
            <a:blip r:embed="rId13"/>
            <a:stretch/>
          </p:blipFill>
          <p:spPr>
            <a:xfrm>
              <a:off x="1066680" y="4896000"/>
              <a:ext cx="1143000" cy="361800"/>
            </a:xfrm>
            <a:prstGeom prst="rect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Magma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EDA vendor to offer an actual unified data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environment for handling Deep sub micron iss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turn arround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in based synthesis methodology and Early Silicon Performance Re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Timing based placement methodolog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Magma flow with Wipro’s Phoenix Method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06668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L Synth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 Design Compile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{ Synopsy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Desig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 Blast Fusion  &amp; Blast Nois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Integrity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 Celtic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 Cadence 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Blast No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 Prime Tim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 Synopsy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Verific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 Assur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 Cadenc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CPU Linux Server – 4GB RAM , 8GB Swap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SMC – 0.13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Vend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rti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Compil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rti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 library Vend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rti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SP – D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F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ulti Scaleable common application ARM base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platfor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 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600k Inst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 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81 Mac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 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 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250 p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5 x 5 Sq. 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F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66 MHz { 4 clock domains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cking strate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ulti-frequency , Multi-pha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Topology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Netlist to GDSI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0.13G Artisan’s TSMC Standard Cell Li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Level Architecture of WAS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35160" y="1360440"/>
            <a:ext cx="2853000" cy="28116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ulti port Memory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187800"/>
            <a:ext cx="5919840" cy="49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             M1        M5          M2                    M3                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B Matr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   S1                                     S2                         S3                 S4                S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2209680"/>
            <a:ext cx="906480" cy="4921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syste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S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06800" y="2203560"/>
            <a:ext cx="855720" cy="4921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5440" y="2203560"/>
            <a:ext cx="923760" cy="492120"/>
          </a:xfrm>
          <a:prstGeom prst="rect">
            <a:avLst/>
          </a:prstGeom>
          <a:solidFill>
            <a:srgbClr val="808080"/>
          </a:solidFill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syste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S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2203560"/>
            <a:ext cx="916200" cy="492120"/>
          </a:xfrm>
          <a:prstGeom prst="rect">
            <a:avLst/>
          </a:prstGeom>
          <a:solidFill>
            <a:srgbClr val="808080"/>
          </a:solidFill>
          <a:ln w="158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syste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S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02360" y="2203560"/>
            <a:ext cx="907920" cy="4921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syste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463840" y="1571400"/>
            <a:ext cx="0" cy="63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63840" y="1571760"/>
            <a:ext cx="5713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62480" y="1641240"/>
            <a:ext cx="0" cy="5619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60760" y="1641240"/>
            <a:ext cx="0" cy="56196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88160" y="1501920"/>
            <a:ext cx="500040" cy="0"/>
          </a:xfrm>
          <a:prstGeom prst="line">
            <a:avLst/>
          </a:prstGeom>
          <a:ln w="158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8200" y="1501920"/>
            <a:ext cx="0" cy="701640"/>
          </a:xfrm>
          <a:prstGeom prst="line">
            <a:avLst/>
          </a:prstGeom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63840" y="2695680"/>
            <a:ext cx="0" cy="4921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9720" y="2695680"/>
            <a:ext cx="0" cy="4921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19600" y="2695680"/>
            <a:ext cx="0" cy="4921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32400" y="2695680"/>
            <a:ext cx="0" cy="49212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30680" y="2695680"/>
            <a:ext cx="0" cy="492120"/>
          </a:xfrm>
          <a:prstGeom prst="line">
            <a:avLst/>
          </a:prstGeom>
          <a:ln w="158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29320" y="2695680"/>
            <a:ext cx="0" cy="492120"/>
          </a:xfrm>
          <a:prstGeom prst="line">
            <a:avLst/>
          </a:prstGeom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5400" y="4106880"/>
            <a:ext cx="971640" cy="17557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-syste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243080" y="3838680"/>
            <a:ext cx="7920" cy="242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1000" y="3838680"/>
            <a:ext cx="998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49640" y="3696840"/>
            <a:ext cx="0" cy="1414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95320" y="4521240"/>
            <a:ext cx="0" cy="1133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4591080"/>
            <a:ext cx="7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5320" y="4871880"/>
            <a:ext cx="7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5320" y="5154480"/>
            <a:ext cx="7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5320" y="5435640"/>
            <a:ext cx="7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66960" y="4521240"/>
            <a:ext cx="641160" cy="2095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MC S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66960" y="4802040"/>
            <a:ext cx="641160" cy="2113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MAC S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2480" y="4600440"/>
            <a:ext cx="71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0880" y="4106880"/>
            <a:ext cx="998640" cy="17575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IO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57640" y="4521240"/>
            <a:ext cx="642960" cy="2095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27200" y="3687480"/>
            <a:ext cx="0" cy="422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8320" y="4106880"/>
            <a:ext cx="1052640" cy="1765440"/>
          </a:xfrm>
          <a:prstGeom prst="rect">
            <a:avLst/>
          </a:prstGeom>
          <a:solidFill>
            <a:srgbClr val="80808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IO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84520" y="4871520"/>
            <a:ext cx="100944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3160" y="5084640"/>
            <a:ext cx="187560" cy="63036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24080" y="5084640"/>
            <a:ext cx="141120" cy="63036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6840" y="5084640"/>
            <a:ext cx="142920" cy="63036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81160" y="4871520"/>
            <a:ext cx="0" cy="212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95360" y="4871520"/>
            <a:ext cx="0" cy="212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08120" y="4871520"/>
            <a:ext cx="0" cy="212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722680" y="4871520"/>
            <a:ext cx="0" cy="212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73560" y="3889440"/>
            <a:ext cx="0" cy="210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89240" y="4100400"/>
            <a:ext cx="927360" cy="1609920"/>
          </a:xfrm>
          <a:prstGeom prst="rect">
            <a:avLst/>
          </a:prstGeom>
          <a:solidFill>
            <a:srgbClr val="808080"/>
          </a:solidFill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-system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32160" y="4521240"/>
            <a:ext cx="9720" cy="755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32160" y="4871880"/>
            <a:ext cx="7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03800" y="4802040"/>
            <a:ext cx="687240" cy="2113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CI (AC-9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27480" y="4100400"/>
            <a:ext cx="936720" cy="1614600"/>
          </a:xfrm>
          <a:prstGeom prst="rect">
            <a:avLst/>
          </a:prstGeom>
          <a:solidFill>
            <a:srgbClr val="808080"/>
          </a:solidFill>
          <a:ln w="158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-Syste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00560" y="3677760"/>
            <a:ext cx="0" cy="42228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85040" y="3677760"/>
            <a:ext cx="0" cy="422280"/>
          </a:xfrm>
          <a:prstGeom prst="line">
            <a:avLst/>
          </a:prstGeom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99120" y="4521240"/>
            <a:ext cx="0" cy="1054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9120" y="4730760"/>
            <a:ext cx="71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70400" y="4521240"/>
            <a:ext cx="722520" cy="42048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PEG2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367760" y="3677760"/>
            <a:ext cx="0" cy="42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4880" y="5048280"/>
            <a:ext cx="642960" cy="21096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2 S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4880" y="5303880"/>
            <a:ext cx="642960" cy="2095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3 S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5548320"/>
            <a:ext cx="642960" cy="21096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4 S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2960" y="5627520"/>
            <a:ext cx="71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0120" y="4100400"/>
            <a:ext cx="998640" cy="1784520"/>
          </a:xfrm>
          <a:prstGeom prst="rect">
            <a:avLst/>
          </a:prstGeom>
          <a:solidFill>
            <a:srgbClr val="808080"/>
          </a:solidFill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sl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10160" y="4397400"/>
            <a:ext cx="690840" cy="520560"/>
          </a:xfrm>
          <a:prstGeom prst="rect">
            <a:avLst/>
          </a:prstGeom>
          <a:solidFill>
            <a:srgbClr val="808080">
              <a:alpha val="9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ail bo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10160" y="4992840"/>
            <a:ext cx="690840" cy="44424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56440" y="4397400"/>
            <a:ext cx="0" cy="1039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56440" y="4621320"/>
            <a:ext cx="153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6440" y="5140440"/>
            <a:ext cx="153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27200" y="3889440"/>
            <a:ext cx="838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78080" y="4451400"/>
            <a:ext cx="0" cy="1193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77720" y="4591080"/>
            <a:ext cx="7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472000" y="1800360"/>
            <a:ext cx="0" cy="382320"/>
          </a:xfrm>
          <a:prstGeom prst="line">
            <a:avLst/>
          </a:prstGeom>
          <a:ln w="158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72000" y="1787400"/>
            <a:ext cx="903240" cy="0"/>
          </a:xfrm>
          <a:prstGeom prst="line">
            <a:avLst/>
          </a:prstGeom>
          <a:ln w="158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48040" y="4572000"/>
            <a:ext cx="642600" cy="209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84520" y="5095800"/>
            <a:ext cx="185400" cy="63180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890720" y="4882680"/>
            <a:ext cx="0" cy="212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560920" y="3677760"/>
            <a:ext cx="0" cy="422280"/>
          </a:xfrm>
          <a:prstGeom prst="line">
            <a:avLst/>
          </a:prstGeom>
          <a:ln w="158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67680" y="4111560"/>
            <a:ext cx="936360" cy="161604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6360" y="4605480"/>
            <a:ext cx="0" cy="1054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26360" y="4815000"/>
            <a:ext cx="71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97640" y="4605480"/>
            <a:ext cx="722520" cy="420480"/>
          </a:xfrm>
          <a:prstGeom prst="rect">
            <a:avLst/>
          </a:prstGeom>
          <a:solidFill>
            <a:srgbClr val="80808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M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HB Port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914400"/>
            <a:ext cx="8381880" cy="5257800"/>
          </a:xfrm>
          <a:prstGeom prst="rect">
            <a:avLst/>
          </a:prstGeom>
          <a:noFill/>
          <a:ln w="158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0320" indent="-220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ign Complex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timing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 Macro intensive – 4 ARM cores , 81 Memory ma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IO planning requir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ent clock tre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power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design closure including SI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1.5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0040" y="123480"/>
            <a:ext cx="67802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 Flow in Magma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360" y="1143000"/>
            <a:ext cx="8915760" cy="5257800"/>
            <a:chOff x="-360" y="1143000"/>
            <a:chExt cx="8915760" cy="5257800"/>
          </a:xfrm>
        </p:grpSpPr>
        <p:sp>
          <p:nvSpPr>
            <p:cNvPr id="226" name=""/>
            <p:cNvSpPr/>
            <p:nvPr/>
          </p:nvSpPr>
          <p:spPr>
            <a:xfrm>
              <a:off x="457200" y="1494000"/>
              <a:ext cx="838080" cy="560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ock and Tim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ecification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lis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880" y="1282680"/>
              <a:ext cx="1905120" cy="1122480"/>
            </a:xfrm>
            <a:prstGeom prst="rect">
              <a:avLst/>
            </a:prstGeom>
            <a:noFill/>
            <a:ln w="9360">
              <a:solidFill>
                <a:srgbClr val="99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2755800"/>
              <a:ext cx="1143000" cy="2793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sizing C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3176640"/>
              <a:ext cx="1143000" cy="2793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Mapp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4017960"/>
              <a:ext cx="1143000" cy="3492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 Optim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20" y="4788000"/>
              <a:ext cx="1143000" cy="4809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or Plan Import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4578480"/>
              <a:ext cx="1295280" cy="17524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3597120"/>
              <a:ext cx="1143000" cy="27972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Restructu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5419800"/>
              <a:ext cx="1143000" cy="77148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e core,   create elements, place macros,   route powe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" y="2614680"/>
              <a:ext cx="1295280" cy="182412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0920" y="135252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l 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90920" y="240516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ff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89548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 Optim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920" y="338616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Restructu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87684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 Optim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920" y="436716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4788000"/>
              <a:ext cx="1143000" cy="5619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l Placement refinement &amp; scan chain optim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548964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ff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9720" y="205416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ff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19720" y="240516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n Swapp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19720" y="128268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st global rou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19720" y="296532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ck Inser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163368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z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2895480"/>
              <a:ext cx="1219320" cy="21733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338616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d Buff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422748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n swapp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20848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wer Jog Rou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19720" y="555948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 Rou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19720" y="591012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lew Fix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2200" y="135252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ise Fix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1844640"/>
              <a:ext cx="1143000" cy="2793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ck Rou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2200" y="2265480"/>
              <a:ext cx="1143000" cy="42048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l Detail Rou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19720" y="380700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izin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72200" y="2825640"/>
              <a:ext cx="1143000" cy="42084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tail Route Refinement for timing and 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72200" y="3386160"/>
              <a:ext cx="1143000" cy="2808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nna Fix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72200" y="3807000"/>
              <a:ext cx="1143000" cy="560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Effort Route Refinement&amp; Noise fi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72200" y="4438800"/>
              <a:ext cx="1143000" cy="41904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ield Routing&amp; Noise Fi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72200" y="4998960"/>
              <a:ext cx="1143000" cy="35100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C/LVS fixing and refin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72200" y="5489640"/>
              <a:ext cx="1143000" cy="35064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D BA &amp; final timing chec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72200" y="5910120"/>
              <a:ext cx="1143000" cy="281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DSII Generta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1600" y="1494000"/>
              <a:ext cx="838080" cy="5601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brary &amp; Noise Prepa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3800" y="1773360"/>
              <a:ext cx="1371600" cy="70164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plex Fire&amp;Ice Based 3D extraction and BA for RC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3800" y="2614680"/>
              <a:ext cx="1371600" cy="56196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me time based STA and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43800" y="4929120"/>
              <a:ext cx="1371600" cy="56052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ura/Calibre based Physical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3800" y="4157640"/>
              <a:ext cx="1371600" cy="56052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tic Based SI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3800" y="3316320"/>
              <a:ext cx="1371600" cy="70164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oltage Storm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wer Analyzer based power analysis and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90920" y="5840280"/>
              <a:ext cx="1143000" cy="42084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wer Analysis &amp; Refi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1773360"/>
              <a:ext cx="1143000" cy="42048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wer Analysis &amp; Refi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19720" y="4578480"/>
              <a:ext cx="1143000" cy="420480"/>
            </a:xfrm>
            <a:prstGeom prst="flowChartProcess">
              <a:avLst/>
            </a:prstGeom>
            <a:solidFill>
              <a:srgbClr val="c0c0c0">
                <a:alpha val="27000"/>
              </a:srgbClr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wer Analysis &amp;Refi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55680" y="135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0" y="1282680"/>
              <a:ext cx="332640" cy="1122480"/>
            </a:xfrm>
            <a:prstGeom prst="rect">
              <a:avLst/>
            </a:prstGeom>
            <a:noFill/>
            <a:ln w="9360">
              <a:solidFill>
                <a:srgbClr val="99ff33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225000" y="2615760"/>
              <a:ext cx="317520" cy="189396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in based synthesis and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800000">
              <a:off x="228240" y="4578480"/>
              <a:ext cx="332640" cy="17524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or Plan &amp; power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14600" y="1282680"/>
              <a:ext cx="1295280" cy="504828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1212840"/>
              <a:ext cx="1295280" cy="15429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2055600" y="2689200"/>
              <a:ext cx="317520" cy="336384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cement , optimization ,detailed power analysis and Grou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3882960" y="2895120"/>
              <a:ext cx="332640" cy="16830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k  insertion &amp;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m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5138640"/>
              <a:ext cx="1295280" cy="1122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95880" y="1282680"/>
              <a:ext cx="1295640" cy="49784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800000">
              <a:off x="5635440" y="1496520"/>
              <a:ext cx="332640" cy="483732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nal route , SI correction, DRC,LVS and antenna fix, design clos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800" y="1352520"/>
              <a:ext cx="129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405160"/>
              <a:ext cx="0" cy="20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95280" y="4438800"/>
              <a:ext cx="0" cy="20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2755800"/>
              <a:ext cx="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4998960"/>
              <a:ext cx="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1212840"/>
              <a:ext cx="0" cy="5187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280" y="640080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6330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1212840"/>
              <a:ext cx="685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12128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67080" y="1143000"/>
              <a:ext cx="0" cy="5257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640080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4080" y="6330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7080" y="114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1143000"/>
              <a:ext cx="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9920" y="1212840"/>
              <a:ext cx="0" cy="5187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640080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2880" y="6261120"/>
              <a:ext cx="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9920" y="1212840"/>
              <a:ext cx="685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5720" y="12128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5200" y="5699160"/>
              <a:ext cx="152280" cy="0"/>
            </a:xfrm>
            <a:prstGeom prst="line">
              <a:avLst/>
            </a:prstGeom>
            <a:ln w="284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467480" y="3035160"/>
              <a:ext cx="0" cy="2664000"/>
            </a:xfrm>
            <a:prstGeom prst="line">
              <a:avLst/>
            </a:prstGeom>
            <a:ln w="284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314840" y="3035160"/>
              <a:ext cx="152280" cy="0"/>
            </a:xfrm>
            <a:prstGeom prst="line">
              <a:avLst/>
            </a:prstGeom>
            <a:ln w="2844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7120" y="5559480"/>
              <a:ext cx="332640" cy="4204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80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20:55:31Z</dcterms:created>
  <dc:creator>Robert P. Smith</dc:creator>
  <dc:description/>
  <dc:language>en-US</dc:language>
  <cp:lastModifiedBy>haripura</cp:lastModifiedBy>
  <cp:lastPrinted>2002-02-26T15:43:18Z</cp:lastPrinted>
  <dcterms:modified xsi:type="dcterms:W3CDTF">2003-09-05T19:16:09Z</dcterms:modified>
  <cp:revision>624</cp:revision>
  <dc:subject/>
  <dc:title>Initial Public Off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6684254</vt:r8>
  </property>
  <property fmtid="{D5CDD505-2E9C-101B-9397-08002B2CF9AE}" pid="3" name="_AuthorEmail">
    <vt:lpwstr>hari.puravankara@wipro.com</vt:lpwstr>
  </property>
  <property fmtid="{D5CDD505-2E9C-101B-9397-08002B2CF9AE}" pid="4" name="_AuthorEmailDisplayName">
    <vt:lpwstr>Hari Krishnan Puravankara</vt:lpwstr>
  </property>
  <property fmtid="{D5CDD505-2E9C-101B-9397-08002B2CF9AE}" pid="5" name="_EmailSubject">
    <vt:lpwstr>Fusion Speaker Guidelines</vt:lpwstr>
  </property>
</Properties>
</file>